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B91-2F5B-44E6-A45B-7F4010B8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44C-80B6-46FF-AE90-863F68EB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681-B178-44E8-917E-AC0DE6C8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7A1-77E4-40B3-A653-FB2CE118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790B-E6D5-4577-A694-9099721E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A028-59CC-4205-B7BF-BA0120B9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A98D-D6DE-4348-9BC4-0DF93E8B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D932-027C-43A0-9319-32742AF1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1A52-AB25-4ABC-8284-2763907E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8D89-F59F-48E3-B7B3-5E79998D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E2FF-469A-4DAB-807A-7F1D9EE8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DDC5-C478-435C-A2DF-F8145FD0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2637-AD12-4D22-8440-69A72299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40B0-1AC4-4137-A4B2-C400A095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006D-EBA8-40BB-AC14-DDCF3D57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CD48-DB2A-44BE-99DE-2795458C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A5CE-633F-4258-BE5A-0EFA4040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AE8E0-51E7-4098-8479-266991F3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49FC5-E393-458B-960B-006B8B3D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3B2D6-AF06-48AD-BA32-CDB1254B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0FC2D-AF00-4884-A36E-61BBC529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5B179-480D-4590-9D10-BD9D1FF2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B4ED-995F-46A0-AA99-E715E2B0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0EBD4-D600-4D71-A784-2FCAD4F2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ECA09-EC88-431A-8403-34522C54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DF95F-8CEF-421A-9ACC-707A7E88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7BB19-0B67-480D-8322-304BA2DD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C3906-08C8-40F3-8249-A3A448CE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BAE92-3724-44E1-BCC7-B028EF4A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1B63-5971-4201-AA4B-49D32852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27F34-F019-408A-B653-755688E8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FBF1C-B8B0-4E5E-AE52-CF31D08A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3A59D-996D-41AE-839C-E204A254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AE0-9658-4C3C-BBD9-C899C056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DFBB5-387F-46EE-A7F4-A70A3D70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0D33B-3A90-49A4-BA32-B5C17614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46910-7A85-4923-BFD2-0619A034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30090-F92C-478D-A9AC-6BE9C73D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D64FB-8B15-4441-9350-3A902ADF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7AF0E-6D6E-492D-9B24-5AC37F2B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66311-8096-4057-AB4B-71EA20B1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DA0B3-70F2-460F-A5A0-7485C73D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937D7-9BFF-4637-9819-A3F4C236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0B51A-3BEC-436E-80BC-2966FBB2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8574-4A64-4106-9E47-5A645A71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77DDE-A40F-4DB5-BF20-19D4CD0E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CBA28-515B-4CAE-B590-D8ACA9C3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96DE5-051F-467D-8F83-0AC815C4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32498-7686-41C8-BE2D-04984F49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FABD2-B194-4A51-A35B-5D469221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02252-39CF-400C-91B7-AEE17770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02893-8E73-48FD-B182-6B6EFDFA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B54E4-5F41-40A0-A3FD-07109206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16301-708B-4A53-A4AD-30410C17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81A85-96FD-467F-863A-E3B73126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8965-FC64-4168-B2D9-028D4407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0547F-A3A3-428A-90F8-006EF93E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4F65-AF90-48BA-88FE-0BABDA24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52A-0915-4056-B55E-406C5A85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CE7-C37C-40EB-B827-480C0B1A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24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f1e1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A374-FAD6-4B98-84ED-AAFE077D7D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24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f1e1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EAA5-75EC-4281-8A2E-6EA0256E7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24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f1e1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B917-357B-4264-9F80-25B2145D0D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24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f1e1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E02D-A3ED-479A-AF6B-D94266B8CB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24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f1e1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286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F590-E21A-441D-A516-83050A6BFE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google.com/imgres?imgurl=http://webeuler.com/blog/wp-content/uploads/2009/09/language.jpg&amp;imgrefurl=http://webeuler.com/blog/%3Fp%3D79&amp;usg=__RXrCEfzVzg41VCNJzggH2pV_p1c=&amp;h=398&amp;w=279&amp;sz=31&amp;hl=en&amp;start=8&amp;sig2=onuM3YtlO0piEpLaDy6U-A&amp;itbs=1&amp;tbnid=uTt2jMasXedV_M:&amp;tbnh=124&amp;tbnw=87&amp;prev=/images%3Fq%3Dlanguage%26hl%3Den%26gbv%3D2%26tbs%3Disch:1&amp;ei=Muv5S9HVOI6oMdPz6IMI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colorincolorado.org/" TargetMode="External"/><Relationship Id="rId3" Type="http://schemas.openxmlformats.org/officeDocument/2006/relationships/hyperlink" Target="http://honolulu.hawaii.edu/intranet/committees/FacDevCom/guidebk/teachtip/motiv.htm" TargetMode="External"/><Relationship Id="rId4" Type="http://schemas.openxmlformats.org/officeDocument/2006/relationships/hyperlink" Target="http://iteslj.org/Techniques/Houston-TeachingIdeas.html" TargetMode="External"/><Relationship Id="rId5" Type="http://schemas.openxmlformats.org/officeDocument/2006/relationships/hyperlink" Target="http://www.nabe.org/" TargetMode="Externa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sdisbury.com/wordpress/wp-content/uploads/2009/06/motivation.gif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blog.mangolanguages.com/wp-content/uploads/2009/11/bigstockphoto_Think_Alphabet_3712600-300x300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s://payment.brown.edu/C20460_ustores/web/images/store_11/community.gif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facebook.com/photo.php?pid=30256166&amp;op=15&amp;o=global&amp;view=global&amp;subj=612385332&amp;id=1534414318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www.facebook.com/photo.php?op=17&amp;view=global&amp;subj=612385332&amp;pid=7883334&amp;id=612385332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google.com/imgres?imgurl=http://booktrustadmin.kentlyons.com/images/image7748.jpg&amp;imgrefurl=http://www.childrenslaureate.org.uk/show/feature/sharing-picture-books-leaflet&amp;usg=__ZMz5QnoDKjMmWV_ykQsj-gNWxFE=&amp;h=1364&amp;w=1400&amp;sz=330&amp;hl=en&amp;start=37&amp;sig2=3skpHzGaj3OOhGHt5R1afA&amp;um=1&amp;itbs=1&amp;tbnid=16rAULkI2Zd2ZM:&amp;tbnh=146&amp;tbnw=150&amp;prev=/images%3Fq%3Dtips%2Bfor%2Bteachers%26start%3D20%26um%3D1%26hl%3Den%26sa%3DN%26rlz%3D1T4ADRA_enUS350US350%26ndsp%3D20%26tbs%3Disch:1&amp;ei=ut75S4vvO4OMMbn3qZEF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298440" y="1139760"/>
            <a:ext cx="7188120" cy="1481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371600" y="3643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271c"/>
                </a:solidFill>
                <a:latin typeface="Calibri"/>
              </a:rPr>
              <a:t>Daiva Berzinskas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271c"/>
                </a:solidFill>
                <a:latin typeface="Calibri"/>
              </a:rPr>
              <a:t>ELS Language Centers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271c"/>
                </a:solidFill>
                <a:latin typeface="Calibri"/>
              </a:rPr>
              <a:t>Email: daivaberz@gmail.com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207" name="Picture 2" descr="http://zif.spz.tu-darmstadt.de/jg-01-1/images/gary3d.gif"/>
          <p:cNvPicPr/>
          <p:nvPr/>
        </p:nvPicPr>
        <p:blipFill>
          <a:blip r:embed="rId2"/>
          <a:stretch/>
        </p:blipFill>
        <p:spPr>
          <a:xfrm>
            <a:off x="5532480" y="4191120"/>
            <a:ext cx="3611520" cy="2361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http://t2.gstatic.com/images?q=tbn:uTt2jMasXedV_M:http://webeuler.com/blog/wp-content/uploads/2009/09/languag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2895480"/>
            <a:ext cx="1600200" cy="21002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209" name="Picture 6" descr="http://www.celestecraig.us/language%20arts.gif"/>
          <p:cNvPicPr/>
          <p:nvPr/>
        </p:nvPicPr>
        <p:blipFill>
          <a:blip r:embed="rId5"/>
          <a:stretch/>
        </p:blipFill>
        <p:spPr>
          <a:xfrm>
            <a:off x="7162920" y="1219320"/>
            <a:ext cx="1676160" cy="23382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6840" y="1599840"/>
            <a:ext cx="4876920" cy="38862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f271c"/>
                </a:solidFill>
                <a:latin typeface="Calibri"/>
              </a:rPr>
              <a:t>Colorin’ Colorado                                                                   </a:t>
            </a:r>
            <a:r>
              <a:rPr b="1" lang="en-US" sz="1700" spc="-1" strike="noStrike" u="sng">
                <a:solidFill>
                  <a:srgbClr val="8dc765"/>
                </a:solidFill>
                <a:uFillTx/>
                <a:latin typeface="Calibri"/>
                <a:hlinkClick r:id="rId2"/>
              </a:rPr>
              <a:t>http://www.colorincolorado.org/</a:t>
            </a:r>
            <a:endParaRPr b="0" lang="en-US" sz="1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f271c"/>
                </a:solidFill>
                <a:latin typeface="Calibri"/>
              </a:rPr>
              <a:t>Ideas for Motivating Students </a:t>
            </a:r>
            <a:r>
              <a:rPr b="1" lang="en-US" sz="1700" spc="-1" strike="noStrike" u="sng">
                <a:solidFill>
                  <a:srgbClr val="8dc765"/>
                </a:solidFill>
                <a:uFillTx/>
                <a:latin typeface="Calibri"/>
                <a:hlinkClick r:id="rId3"/>
              </a:rPr>
              <a:t>http://honolulu.hawaii.edu/intranet/committees/FacDevCom/guidebk/teachtip/motiv.htm</a:t>
            </a:r>
            <a:endParaRPr b="0" lang="en-US" sz="1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f271c"/>
                </a:solidFill>
                <a:latin typeface="Calibri"/>
              </a:rPr>
              <a:t>75 ESL Teaching Ideas                                                   </a:t>
            </a:r>
            <a:r>
              <a:rPr b="1" lang="en-US" sz="1700" spc="-1" strike="noStrike" u="sng">
                <a:solidFill>
                  <a:srgbClr val="8dc765"/>
                </a:solidFill>
                <a:uFillTx/>
                <a:latin typeface="Calibri"/>
                <a:hlinkClick r:id="rId4"/>
              </a:rPr>
              <a:t>http://iteslj.org/Techniques/Houston-TeachingIdeas.html</a:t>
            </a:r>
            <a:endParaRPr b="0" lang="en-US" sz="1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f271c"/>
                </a:solidFill>
                <a:latin typeface="Calibri"/>
              </a:rPr>
              <a:t>National Association of Bilingual Education (NABE)                                    </a:t>
            </a:r>
            <a:r>
              <a:rPr b="1" lang="en-US" sz="1700" spc="-1" strike="noStrike" u="sng">
                <a:solidFill>
                  <a:srgbClr val="8dc765"/>
                </a:solidFill>
                <a:uFillTx/>
                <a:latin typeface="Calibri"/>
                <a:hlinkClick r:id="rId5"/>
              </a:rPr>
              <a:t>http://www.nabe.org/</a:t>
            </a:r>
            <a:endParaRPr b="0" lang="en-US" sz="1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f271c"/>
                </a:solidFill>
                <a:latin typeface="Calibri"/>
              </a:rPr>
              <a:t>TESL Website Index                                         </a:t>
            </a:r>
            <a:r>
              <a:rPr b="0" lang="en-US" sz="1700" spc="-1" strike="noStrike">
                <a:solidFill>
                  <a:srgbClr val="4f271c"/>
                </a:solidFill>
                <a:latin typeface="Calibri"/>
              </a:rPr>
              <a:t>http://www.tefltesl.freeonline.co.uk/teaching.htm</a:t>
            </a:r>
            <a:endParaRPr b="0" lang="en-US" sz="1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240" name="Picture 2" descr="http://homepage.ntlworld.com/gary.sturt/classd2.jpg"/>
          <p:cNvPicPr/>
          <p:nvPr/>
        </p:nvPicPr>
        <p:blipFill>
          <a:blip r:embed="rId6"/>
          <a:stretch/>
        </p:blipFill>
        <p:spPr>
          <a:xfrm>
            <a:off x="5867280" y="1600200"/>
            <a:ext cx="2819520" cy="3506760"/>
          </a:xfrm>
          <a:prstGeom prst="rect">
            <a:avLst/>
          </a:prstGeom>
          <a:ln w="9360">
            <a:solidFill>
              <a:srgbClr val="3b1d1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f271c"/>
                </a:solidFill>
                <a:latin typeface="Calibri"/>
              </a:rPr>
              <a:t>First Language Acquisition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. Retrieved on May 23, 2010, 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from 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http://www.edumaldives.com/downloads/First_Lan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guage_Acquisition.pdf</a:t>
            </a:r>
            <a:endParaRPr b="0" lang="en-US" sz="14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Clark, Beverly (n.d). </a:t>
            </a:r>
            <a:r>
              <a:rPr b="0" i="1" lang="en-US" sz="1400" spc="-1" strike="noStrike">
                <a:solidFill>
                  <a:srgbClr val="4f271c"/>
                </a:solidFill>
                <a:latin typeface="Calibri"/>
              </a:rPr>
              <a:t>First and Second Language Acquisition </a:t>
            </a:r>
            <a:r>
              <a:rPr b="0" i="1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4f271c"/>
                </a:solidFill>
                <a:latin typeface="Calibri"/>
              </a:rPr>
              <a:t>in Early Childhool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. Retrieved on May 23, 2010 from 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http://ceep.crc.uiuc.edu/pubs/katzsym/clark-b.pdf</a:t>
            </a:r>
            <a:endParaRPr b="0" lang="en-US" sz="14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f271c"/>
                </a:solidFill>
                <a:latin typeface="Calibri"/>
              </a:rPr>
              <a:t>Gass, S.M. &amp; Selinker, L. (2008). </a:t>
            </a:r>
            <a:r>
              <a:rPr b="0" i="1" lang="en-US" sz="1300" spc="-1" strike="noStrike">
                <a:solidFill>
                  <a:srgbClr val="4f271c"/>
                </a:solidFill>
                <a:latin typeface="Calibri"/>
              </a:rPr>
              <a:t>Second language acquisition: An </a:t>
            </a:r>
            <a:r>
              <a:rPr b="0" i="1" lang="en-US" sz="13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i="1" lang="en-US" sz="1300" spc="-1" strike="noStrike">
                <a:solidFill>
                  <a:srgbClr val="4f271c"/>
                </a:solidFill>
                <a:latin typeface="Calibri"/>
              </a:rPr>
              <a:t>introductory course </a:t>
            </a:r>
            <a:r>
              <a:rPr b="0" lang="en-US" sz="1300" spc="-1" strike="noStrike">
                <a:solidFill>
                  <a:srgbClr val="4f271c"/>
                </a:solidFill>
                <a:latin typeface="Calibri"/>
              </a:rPr>
              <a:t>(3</a:t>
            </a:r>
            <a:r>
              <a:rPr b="0" lang="en-US" sz="1300" spc="-1" strike="noStrike" baseline="30000">
                <a:solidFill>
                  <a:srgbClr val="4f271c"/>
                </a:solidFill>
                <a:latin typeface="Calibri"/>
              </a:rPr>
              <a:t>rd</a:t>
            </a:r>
            <a:r>
              <a:rPr b="0" lang="en-US" sz="1300" spc="-1" strike="noStrike">
                <a:solidFill>
                  <a:srgbClr val="4f271c"/>
                </a:solidFill>
                <a:latin typeface="Calibri"/>
              </a:rPr>
              <a:t> ed.). New York: Routledge.</a:t>
            </a:r>
            <a:endParaRPr b="0" lang="en-US" sz="13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Haynes, Judi (2005).  </a:t>
            </a:r>
            <a:r>
              <a:rPr b="0" i="1" lang="en-US" sz="1400" spc="-1" strike="noStrike">
                <a:solidFill>
                  <a:srgbClr val="4f271c"/>
                </a:solidFill>
                <a:latin typeface="Calibri"/>
              </a:rPr>
              <a:t>Stages of Second Language </a:t>
            </a:r>
            <a:r>
              <a:rPr b="0" i="1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4f271c"/>
                </a:solidFill>
                <a:latin typeface="Calibri"/>
              </a:rPr>
              <a:t>Acquisition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. Retrieved on May 24,  2010, from 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http://www.everythingesl.net/inservices/language_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stages.php</a:t>
            </a:r>
            <a:endParaRPr b="0" lang="en-US" sz="14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Walqui, Aida . (2000). </a:t>
            </a:r>
            <a:r>
              <a:rPr b="0" i="1" lang="en-US" sz="1400" spc="-1" strike="noStrike">
                <a:solidFill>
                  <a:srgbClr val="4f271c"/>
                </a:solidFill>
                <a:latin typeface="Calibri"/>
              </a:rPr>
              <a:t>Contextual Factors in Second </a:t>
            </a:r>
            <a:r>
              <a:rPr b="0" i="1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i="1" lang="en-US" sz="1400" spc="-1" strike="noStrike">
                <a:solidFill>
                  <a:srgbClr val="4f271c"/>
                </a:solidFill>
                <a:latin typeface="Calibri"/>
              </a:rPr>
              <a:t>Language Acquisition. 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Eric Digest.  Retrieved on 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May 23, 2010 , from  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http://www.cal.org/resources/digest/digest_pdfs/0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4f271c"/>
                </a:solidFill>
                <a:latin typeface="Calibri"/>
              </a:rPr>
              <a:t>005-contextual-walqui.pdf</a:t>
            </a:r>
            <a:endParaRPr b="0" lang="en-US" sz="14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5867280" y="4457880"/>
            <a:ext cx="327672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MTSU HONOR STAT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assignment/assessment was solely written by me. In no way have I plagiarized (represented the work of another as my own) or otherwise violated the copyright laws and academic conventions of fair use. I know that violations of this policy may result in my being dismissed from Middle Tennessee State University and / or appropriate legal action being taken against 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Daiva Berzinsk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5-23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4" descr="http://t1.gstatic.com/images?q=tbn:EU2p5rrkeSp6ZM:http://69.175.14.181/catalog/images/cat_book.jpg"/>
          <p:cNvPicPr/>
          <p:nvPr/>
        </p:nvPicPr>
        <p:blipFill>
          <a:blip r:embed="rId2"/>
          <a:stretch/>
        </p:blipFill>
        <p:spPr>
          <a:xfrm>
            <a:off x="5883120" y="1676520"/>
            <a:ext cx="2136960" cy="1904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554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56840" y="159984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alibri"/>
              </a:rPr>
              <a:t>Behaviorist view: </a:t>
            </a: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language learning is a result of imitation and an automatic habit.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2d47"/>
                </a:solidFill>
                <a:latin typeface="Calibri"/>
              </a:rPr>
              <a:t>LAD: </a:t>
            </a:r>
            <a:r>
              <a:rPr b="0" lang="en-US" sz="3200" spc="-1" strike="noStrike">
                <a:solidFill>
                  <a:srgbClr val="4f271c"/>
                </a:solidFill>
                <a:latin typeface="Calibri"/>
              </a:rPr>
              <a:t>Theory suggested by Noam Chomsky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71c"/>
                </a:solidFill>
                <a:latin typeface="Calibri"/>
              </a:rPr>
              <a:t>Language learner participant in creating language, not imitating..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71c"/>
                </a:solidFill>
                <a:latin typeface="Calibri"/>
              </a:rPr>
              <a:t>All children are born with a LAD, which helps children produce and understand language when developed at an early age.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212" name="Picture 2" descr="http://www.cupkorea.co.kr/lang/l_languagenadmind.gif"/>
          <p:cNvPicPr/>
          <p:nvPr/>
        </p:nvPicPr>
        <p:blipFill>
          <a:blip r:embed="rId2"/>
          <a:stretch/>
        </p:blipFill>
        <p:spPr>
          <a:xfrm>
            <a:off x="6324480" y="1905120"/>
            <a:ext cx="2695680" cy="2695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456840" y="1599840"/>
            <a:ext cx="5181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f271c"/>
                </a:solidFill>
                <a:latin typeface="Calibri"/>
              </a:rPr>
              <a:t>Language acquisition and processing  develop in the left hemisphere of the brain (Persylvian region).</a:t>
            </a:r>
            <a:endParaRPr b="0" lang="en-US" sz="25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f271c"/>
                </a:solidFill>
                <a:latin typeface="Calibri"/>
              </a:rPr>
              <a:t>Ages 2 -12 – The critical period for natural second language acquisition to take place in children .</a:t>
            </a:r>
            <a:endParaRPr b="0" lang="en-US" sz="25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f271c"/>
                </a:solidFill>
                <a:latin typeface="Calibri"/>
              </a:rPr>
              <a:t>After age 12 brain enters period of “plasticity” making SLA difficult.</a:t>
            </a:r>
            <a:endParaRPr b="0" lang="en-US" sz="25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6095880" y="2286000"/>
            <a:ext cx="2479680" cy="327672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554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58d01"/>
                </a:solidFill>
                <a:latin typeface="Calibri"/>
              </a:rPr>
              <a:t>3 Contextual Factors: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Calibri"/>
              </a:rPr>
              <a:t>Language: </a:t>
            </a:r>
            <a:endParaRPr b="0" lang="en-US" sz="24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Calibri"/>
              </a:rPr>
              <a:t>Linguistic distance between L1 and L2</a:t>
            </a: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Calibri"/>
              </a:rPr>
              <a:t>Proficiency in L1 and knowledge of L2</a:t>
            </a: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Calibri"/>
              </a:rPr>
              <a:t>Dialect  native language</a:t>
            </a: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Calibri"/>
              </a:rPr>
              <a:t>The Learner:</a:t>
            </a:r>
            <a:endParaRPr b="0" lang="en-US" sz="24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Calibri"/>
              </a:rPr>
              <a:t>Presence of peer pressure</a:t>
            </a: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Calibri"/>
              </a:rPr>
              <a:t>Role models</a:t>
            </a: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Calibri"/>
              </a:rPr>
              <a:t>Level of home support</a:t>
            </a: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Calibri"/>
              </a:rPr>
              <a:t>The Learning Process</a:t>
            </a:r>
            <a:endParaRPr b="0" lang="en-US" sz="24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Calibri"/>
              </a:rPr>
              <a:t>Different learning styles of students should be considered</a:t>
            </a: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Calibri"/>
              </a:rPr>
              <a:t>Intrinsic motivation</a:t>
            </a: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Calibri"/>
              </a:rPr>
              <a:t>Quality of classroom interaction</a:t>
            </a: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5f7c2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218" name="Picture 2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2362320"/>
            <a:ext cx="2408400" cy="243828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237960" y="-6480"/>
            <a:ext cx="8790120" cy="1554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56840" y="2209320"/>
            <a:ext cx="76201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natist Approach: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71c"/>
                </a:solidFill>
                <a:latin typeface="Calibri"/>
              </a:rPr>
              <a:t>Result of Chomsky’s work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71c"/>
                </a:solidFill>
                <a:latin typeface="Calibri"/>
              </a:rPr>
              <a:t>Language is a biological process driven by LAD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71c"/>
                </a:solidFill>
                <a:latin typeface="Calibri"/>
              </a:rPr>
              <a:t>Universal Grammar is shared by all human beings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teractionist Approach: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71c"/>
                </a:solidFill>
                <a:latin typeface="Calibri"/>
              </a:rPr>
              <a:t>Emphasizes learner interaction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71c"/>
                </a:solidFill>
                <a:latin typeface="Calibri"/>
              </a:rPr>
              <a:t>Social implications in language learning 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221" name="Picture 2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1066680"/>
            <a:ext cx="2438280" cy="207828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0200"/>
            <a:ext cx="4648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271c"/>
                </a:solidFill>
                <a:latin typeface="Calibri"/>
              </a:rPr>
              <a:t>Humans are “hard-wired” to learn language.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271c"/>
                </a:solidFill>
                <a:latin typeface="Calibri"/>
              </a:rPr>
              <a:t>Learners play an active role in the process.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271c"/>
                </a:solidFill>
                <a:latin typeface="Calibri"/>
              </a:rPr>
              <a:t>Learner simply needs language samples to get started since Universal Grammar is present.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224" name="Picture 2" descr="http://www.bichakjian.com/bernard/wp-content/uploads/2007/07/chomsky.jpg"/>
          <p:cNvPicPr/>
          <p:nvPr/>
        </p:nvPicPr>
        <p:blipFill>
          <a:blip r:embed="rId2"/>
          <a:stretch/>
        </p:blipFill>
        <p:spPr>
          <a:xfrm>
            <a:off x="5715000" y="1447920"/>
            <a:ext cx="1704960" cy="29430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4"/>
          <p:cNvSpPr/>
          <p:nvPr/>
        </p:nvSpPr>
        <p:spPr>
          <a:xfrm>
            <a:off x="380880" y="4648320"/>
            <a:ext cx="6934320" cy="2562840"/>
          </a:xfrm>
          <a:prstGeom prst="rect">
            <a:avLst/>
          </a:prstGeom>
          <a:solidFill>
            <a:srgbClr val="ff0066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271c"/>
                </a:solidFill>
                <a:latin typeface="Calibri"/>
              </a:rPr>
              <a:t>In the classroom: </a:t>
            </a:r>
            <a:r>
              <a:rPr b="0" lang="en-US" sz="1800" spc="-1" strike="noStrike">
                <a:solidFill>
                  <a:srgbClr val="4f271c"/>
                </a:solidFill>
                <a:latin typeface="Calibri"/>
              </a:rPr>
              <a:t>Students create grammar by testing hypothes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271c"/>
                </a:solidFill>
                <a:latin typeface="Calibri"/>
              </a:rPr>
              <a:t>RULE: </a:t>
            </a:r>
            <a:r>
              <a:rPr b="0" lang="en-US" sz="1800" spc="-1" strike="noStrike">
                <a:solidFill>
                  <a:srgbClr val="4f271c"/>
                </a:solidFill>
                <a:latin typeface="Calibri"/>
              </a:rPr>
              <a:t>past tense verbs are created by adding -</a:t>
            </a:r>
            <a:r>
              <a:rPr b="0" i="1" lang="en-US" sz="1800" spc="-1" strike="noStrike">
                <a:solidFill>
                  <a:srgbClr val="4f271c"/>
                </a:solidFill>
                <a:latin typeface="Calibri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Calibri"/>
              </a:rPr>
              <a:t>According to this when learning </a:t>
            </a:r>
            <a:r>
              <a:rPr b="0" i="1" lang="en-US" sz="1800" spc="-1" strike="noStrike">
                <a:solidFill>
                  <a:srgbClr val="4f271c"/>
                </a:solidFill>
                <a:latin typeface="Calibri"/>
              </a:rPr>
              <a:t>to go</a:t>
            </a:r>
            <a:r>
              <a:rPr b="0" lang="en-US" sz="1800" spc="-1" strike="noStrike">
                <a:solidFill>
                  <a:srgbClr val="4f271c"/>
                </a:solidFill>
                <a:latin typeface="Calibri"/>
              </a:rPr>
              <a:t>: the student wil say:"</a:t>
            </a:r>
            <a:r>
              <a:rPr b="0" i="1" lang="en-US" sz="1800" spc="-1" strike="noStrike">
                <a:solidFill>
                  <a:srgbClr val="4f271c"/>
                </a:solidFill>
                <a:latin typeface="Calibri"/>
              </a:rPr>
              <a:t>goed</a:t>
            </a:r>
            <a:r>
              <a:rPr b="0" lang="en-US" sz="1800" spc="-1" strike="noStrike">
                <a:solidFill>
                  <a:srgbClr val="4f271c"/>
                </a:solidFill>
                <a:latin typeface="Calibri"/>
              </a:rPr>
              <a:t>"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Calibri"/>
              </a:rPr>
              <a:t>Eventually, student will revise this hypothesis to accommodate exception of the past tense of irregular verbs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271c"/>
                </a:solidFill>
                <a:latin typeface="Calibri"/>
              </a:rPr>
              <a:t>Students create grammatically correct sentences by using rules instead of repeating what they have he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249120" y="268200"/>
            <a:ext cx="8650440" cy="1158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6840" y="1600200"/>
            <a:ext cx="6705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271c"/>
                </a:solidFill>
                <a:latin typeface="Calibri"/>
              </a:rPr>
              <a:t>Language learning is based on social interaction between learners, teachers, and peers.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271c"/>
                </a:solidFill>
                <a:latin typeface="Calibri"/>
              </a:rPr>
              <a:t>Vygotsky’s Zone of Proximal Development (ZPD)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271c"/>
                </a:solidFill>
                <a:latin typeface="Calibri"/>
              </a:rPr>
              <a:t>Language develops over time due to many instances in interactions.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914400" y="4419720"/>
            <a:ext cx="4343400" cy="11912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the classroom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er must create as many lessons as possible which stress social interaction for L2 speakers with L1 speakers in the communi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4038480"/>
            <a:ext cx="2333880" cy="1965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Calibri"/>
              </a:rPr>
              <a:t>Interactionist Approach: </a:t>
            </a:r>
            <a:r>
              <a:rPr b="0" lang="en-US" sz="2700" spc="-1" strike="noStrike">
                <a:solidFill>
                  <a:srgbClr val="4f271c"/>
                </a:solidFill>
                <a:latin typeface="Calibri"/>
              </a:rPr>
              <a:t>Social aspects of language acquisition are emphasized and encouraged.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Calibri"/>
              </a:rPr>
              <a:t>HOW?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Calibri"/>
              </a:rPr>
              <a:t>Speaking Evaluations</a:t>
            </a:r>
            <a:endParaRPr b="0" lang="en-US" sz="24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Calibri"/>
              </a:rPr>
              <a:t>Contact America Activities – public interaction</a:t>
            </a:r>
            <a:endParaRPr b="0" lang="en-US" sz="2400" spc="-1" strike="noStrike">
              <a:solidFill>
                <a:srgbClr val="4f271c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42117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Calibri"/>
              </a:rPr>
              <a:t>Role play</a:t>
            </a:r>
            <a:endParaRPr b="0" lang="en-US" sz="24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232" name="Picture 2" descr="http://photos-d.ak.fbcdn.net/hphotos-ak-snc1/hs272.snc1/9929_1110910623017_1534414318_30256166_5363565_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1828800"/>
            <a:ext cx="2332080" cy="11430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233" name="Picture 4" descr="http://sphotos.ak.fbcdn.net/hphotos-ak-snc1/hs133.snc1/5688_1101804462469_1147435410_30261643_1386027_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3581280"/>
            <a:ext cx="4025880" cy="301968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234" name="TextBox 5"/>
          <p:cNvSpPr/>
          <p:nvPr/>
        </p:nvSpPr>
        <p:spPr>
          <a:xfrm>
            <a:off x="670572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Y CLASSRO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f271c"/>
                </a:solidFill>
                <a:latin typeface="Calibri"/>
              </a:rPr>
              <a:t>Have students set personal goals for language learning.</a:t>
            </a:r>
            <a:endParaRPr b="0" lang="en-US" sz="25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f271c"/>
                </a:solidFill>
                <a:latin typeface="Calibri"/>
              </a:rPr>
              <a:t>Create a supportive classroom environment to encourage class participation and interaction with fellow students.</a:t>
            </a:r>
            <a:endParaRPr b="0" lang="en-US" sz="25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f271c"/>
                </a:solidFill>
                <a:latin typeface="Calibri"/>
              </a:rPr>
              <a:t>Create lessons that provide opportunities for community involvement.</a:t>
            </a:r>
            <a:endParaRPr b="0" lang="en-US" sz="25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f271c"/>
                </a:solidFill>
                <a:latin typeface="Calibri"/>
              </a:rPr>
              <a:t>Know cultural influences in the classroom.</a:t>
            </a:r>
            <a:endParaRPr b="0" lang="en-US" sz="2500" spc="-1" strike="noStrike">
              <a:solidFill>
                <a:srgbClr val="4f271c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237" name="Picture 2" descr="http://t0.gstatic.com/images?q=tbn:16rAULkI2Zd2ZM:http://booktrustadmin.kentlyons.com/images/image774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73560" y="2362320"/>
            <a:ext cx="297972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2:29:44Z</dcterms:created>
  <dc:creator>dAivA</dc:creator>
  <dc:description/>
  <dc:language>en-US</dc:language>
  <cp:lastModifiedBy>dAivA</cp:lastModifiedBy>
  <dcterms:modified xsi:type="dcterms:W3CDTF">2010-05-24T03:14:33Z</dcterms:modified>
  <cp:revision>40</cp:revision>
  <dc:subject/>
  <dc:title>Formal Approaches to SLA</dc:title>
</cp:coreProperties>
</file>